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B4F-9336-4A92-A447-A8D759EA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0CF0-6436-4AC9-AEC7-7B637A56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E7A-282A-4D91-B811-4559AE61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CBE8-37D2-4128-8704-687C2006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978-C28D-403A-9E7D-0A14BC77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D743-B82F-430C-A0D3-9B868935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18D-6B1B-41BA-8261-4F1C28A5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40A-C6F1-4887-8EB8-6A1254BA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C11E-CAED-446A-B698-670570B6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19A-EABD-441E-B0A5-68BC26BD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366-C41B-42B7-BE8B-0EC9E91C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D9B-52B5-4978-9271-E6C78B73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4288-0F5A-4B97-83A7-1DC7C381C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djacent,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ertical,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upplementary, and Complementary 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ementary angles add up to 9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 flipV="1">
            <a:off x="2666880" y="22860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12408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66688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9"/>
          <p:cNvSpPr/>
          <p:nvPr/>
        </p:nvSpPr>
        <p:spPr>
          <a:xfrm flipH="1" flipV="1">
            <a:off x="5638320" y="27432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"/>
          <p:cNvSpPr/>
          <p:nvPr/>
        </p:nvSpPr>
        <p:spPr>
          <a:xfrm flipV="1">
            <a:off x="6858000" y="228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1"/>
          <p:cNvSpPr/>
          <p:nvPr/>
        </p:nvSpPr>
        <p:spPr>
          <a:xfrm flipV="1">
            <a:off x="716292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2"/>
          <p:cNvSpPr/>
          <p:nvPr/>
        </p:nvSpPr>
        <p:spPr>
          <a:xfrm flipV="1">
            <a:off x="7162920" y="32004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62485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71629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914400" y="4495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jacent and Complementary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4724280" y="4495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mentary Angl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t not Adja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7"/>
          <p:cNvSpPr/>
          <p:nvPr/>
        </p:nvSpPr>
        <p:spPr>
          <a:xfrm>
            <a:off x="2666880" y="4114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8"/>
          <p:cNvSpPr/>
          <p:nvPr/>
        </p:nvSpPr>
        <p:spPr>
          <a:xfrm flipV="1">
            <a:off x="2666880" y="20570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e Ti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8" descr="AG00040_"/>
          <p:cNvPicPr/>
          <p:nvPr/>
        </p:nvPicPr>
        <p:blipFill>
          <a:blip r:embed="rId1"/>
          <a:stretch/>
        </p:blipFill>
        <p:spPr>
          <a:xfrm>
            <a:off x="2590920" y="2209680"/>
            <a:ext cx="4189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rection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each pair of angles as vertical, supplementary,  complementary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none of the abo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 flipV="1">
            <a:off x="4724280" y="2438280"/>
            <a:ext cx="12193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3341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96252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 flipV="1">
            <a:off x="4724280" y="2438280"/>
            <a:ext cx="12193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3341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96252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971800" y="4572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lementary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 flipH="1">
            <a:off x="2209680" y="4495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6"/>
          <p:cNvSpPr/>
          <p:nvPr/>
        </p:nvSpPr>
        <p:spPr>
          <a:xfrm flipH="1" flipV="1">
            <a:off x="2590560" y="3200400"/>
            <a:ext cx="19047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5029200" y="44956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5029200" y="2895120"/>
            <a:ext cx="10666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556272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048120" y="4038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 flipH="1">
            <a:off x="2209680" y="4495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 flipH="1" flipV="1">
            <a:off x="2590560" y="3200400"/>
            <a:ext cx="19047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5029200" y="44956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8"/>
          <p:cNvSpPr/>
          <p:nvPr/>
        </p:nvSpPr>
        <p:spPr>
          <a:xfrm flipV="1">
            <a:off x="5029200" y="2895120"/>
            <a:ext cx="10666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556272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048120" y="4038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2971800" y="47242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mentary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6"/>
          <p:cNvSpPr/>
          <p:nvPr/>
        </p:nvSpPr>
        <p:spPr>
          <a:xfrm flipH="1" flipV="1">
            <a:off x="2590560" y="3200040"/>
            <a:ext cx="373356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4114800" y="2895480"/>
            <a:ext cx="1981080" cy="289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525780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3809880" y="4572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5"/>
          <p:cNvSpPr/>
          <p:nvPr/>
        </p:nvSpPr>
        <p:spPr>
          <a:xfrm flipH="1" flipV="1">
            <a:off x="2590560" y="3200040"/>
            <a:ext cx="373356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6"/>
          <p:cNvSpPr/>
          <p:nvPr/>
        </p:nvSpPr>
        <p:spPr>
          <a:xfrm flipV="1">
            <a:off x="4114800" y="2895480"/>
            <a:ext cx="1981080" cy="289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25780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809880" y="4572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2819520" y="22096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5"/>
          <p:cNvSpPr/>
          <p:nvPr/>
        </p:nvSpPr>
        <p:spPr>
          <a:xfrm flipH="1">
            <a:off x="2209680" y="4495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 flipH="1" flipV="1">
            <a:off x="2590560" y="3200400"/>
            <a:ext cx="19047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5029200" y="44956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 flipV="1">
            <a:off x="5029200" y="2895120"/>
            <a:ext cx="10666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556272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048120" y="4038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jacent angles are “side by side” and share a common r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 flipH="1" flipV="1">
            <a:off x="1294920" y="2971440"/>
            <a:ext cx="259092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 flipH="1" flipV="1">
            <a:off x="3809880" y="2590560"/>
            <a:ext cx="76320" cy="2438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6"/>
          <p:cNvSpPr/>
          <p:nvPr/>
        </p:nvSpPr>
        <p:spPr>
          <a:xfrm flipV="1">
            <a:off x="3886200" y="274320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04812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88620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H="1">
            <a:off x="2209680" y="4495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6"/>
          <p:cNvSpPr/>
          <p:nvPr/>
        </p:nvSpPr>
        <p:spPr>
          <a:xfrm flipH="1" flipV="1">
            <a:off x="2590560" y="3200400"/>
            <a:ext cx="19047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5029200" y="44956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8"/>
          <p:cNvSpPr/>
          <p:nvPr/>
        </p:nvSpPr>
        <p:spPr>
          <a:xfrm flipV="1">
            <a:off x="5029200" y="2895120"/>
            <a:ext cx="10666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56272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048120" y="4038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971800" y="47242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4114800" y="243792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53341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37339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 flipV="1">
            <a:off x="4114800" y="243792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3341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7339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971800" y="47242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6"/>
          <p:cNvSpPr/>
          <p:nvPr/>
        </p:nvSpPr>
        <p:spPr>
          <a:xfrm flipV="1">
            <a:off x="4114800" y="243792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53341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388620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 flipV="1">
            <a:off x="4114800" y="243792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3341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388620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2971800" y="47242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lementary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4114800" y="15235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449568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4114800" y="2590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4114800" y="1904760"/>
            <a:ext cx="9907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6"/>
          <p:cNvSpPr/>
          <p:nvPr/>
        </p:nvSpPr>
        <p:spPr>
          <a:xfrm flipV="1">
            <a:off x="4114800" y="15235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49568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114800" y="2590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"/>
          <p:cNvSpPr/>
          <p:nvPr/>
        </p:nvSpPr>
        <p:spPr>
          <a:xfrm flipV="1">
            <a:off x="4114800" y="1904760"/>
            <a:ext cx="9907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2971800" y="47242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mentary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6"/>
          <p:cNvSpPr/>
          <p:nvPr/>
        </p:nvSpPr>
        <p:spPr>
          <a:xfrm flipV="1">
            <a:off x="4114800" y="15238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49568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3276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9"/>
          <p:cNvSpPr/>
          <p:nvPr/>
        </p:nvSpPr>
        <p:spPr>
          <a:xfrm flipV="1">
            <a:off x="4114800" y="2285640"/>
            <a:ext cx="1371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6"/>
          <p:cNvSpPr/>
          <p:nvPr/>
        </p:nvSpPr>
        <p:spPr>
          <a:xfrm flipV="1">
            <a:off x="4114800" y="15238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449568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276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9"/>
          <p:cNvSpPr/>
          <p:nvPr/>
        </p:nvSpPr>
        <p:spPr>
          <a:xfrm flipV="1">
            <a:off x="4114800" y="2285640"/>
            <a:ext cx="1371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2971800" y="47242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rection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the missing ang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se are examples of adjacent ang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167652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6"/>
          <p:cNvSpPr/>
          <p:nvPr/>
        </p:nvSpPr>
        <p:spPr>
          <a:xfrm flipV="1">
            <a:off x="1676520" y="2057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1676520" y="2285640"/>
            <a:ext cx="1066680" cy="16765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4191120" y="525780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 flipV="1">
            <a:off x="5943600" y="4038120"/>
            <a:ext cx="121932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 flipH="1" flipV="1">
            <a:off x="4876920" y="25146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"/>
          <p:cNvSpPr/>
          <p:nvPr/>
        </p:nvSpPr>
        <p:spPr>
          <a:xfrm flipV="1">
            <a:off x="6553080" y="1676520"/>
            <a:ext cx="0" cy="13716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2"/>
          <p:cNvSpPr/>
          <p:nvPr/>
        </p:nvSpPr>
        <p:spPr>
          <a:xfrm flipV="1">
            <a:off x="6553080" y="182844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3"/>
          <p:cNvSpPr/>
          <p:nvPr/>
        </p:nvSpPr>
        <p:spPr>
          <a:xfrm flipH="1" flipV="1">
            <a:off x="456840" y="3885840"/>
            <a:ext cx="11430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4"/>
          <p:cNvSpPr/>
          <p:nvPr/>
        </p:nvSpPr>
        <p:spPr>
          <a:xfrm flipV="1">
            <a:off x="1600200" y="4723920"/>
            <a:ext cx="838080" cy="11430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5"/>
          <p:cNvSpPr/>
          <p:nvPr/>
        </p:nvSpPr>
        <p:spPr>
          <a:xfrm flipV="1">
            <a:off x="1600200" y="5333760"/>
            <a:ext cx="1523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220968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752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670572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1814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5638680" y="2286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6553080" y="220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1295280" y="4876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2209680" y="5105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6"/>
          <p:cNvSpPr/>
          <p:nvPr/>
        </p:nvSpPr>
        <p:spPr>
          <a:xfrm flipV="1">
            <a:off x="4114800" y="243792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3341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388620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6"/>
          <p:cNvSpPr/>
          <p:nvPr/>
        </p:nvSpPr>
        <p:spPr>
          <a:xfrm flipV="1">
            <a:off x="4114800" y="243792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53341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88620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135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4267080" y="38862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6"/>
          <p:cNvSpPr/>
          <p:nvPr/>
        </p:nvSpPr>
        <p:spPr>
          <a:xfrm flipV="1">
            <a:off x="4267080" y="15238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4267080" y="1904760"/>
            <a:ext cx="10670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457200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434340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267080" y="38862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6"/>
          <p:cNvSpPr/>
          <p:nvPr/>
        </p:nvSpPr>
        <p:spPr>
          <a:xfrm flipV="1">
            <a:off x="4267080" y="15238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7"/>
          <p:cNvSpPr/>
          <p:nvPr/>
        </p:nvSpPr>
        <p:spPr>
          <a:xfrm flipV="1">
            <a:off x="4267080" y="1904760"/>
            <a:ext cx="10670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457200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434340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25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"/>
          <p:cNvSpPr/>
          <p:nvPr/>
        </p:nvSpPr>
        <p:spPr>
          <a:xfrm>
            <a:off x="2209680" y="350532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6"/>
          <p:cNvSpPr/>
          <p:nvPr/>
        </p:nvSpPr>
        <p:spPr>
          <a:xfrm flipV="1">
            <a:off x="3200400" y="2209320"/>
            <a:ext cx="373392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358128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586728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2209680" y="350532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6"/>
          <p:cNvSpPr/>
          <p:nvPr/>
        </p:nvSpPr>
        <p:spPr>
          <a:xfrm flipV="1">
            <a:off x="3200400" y="2209320"/>
            <a:ext cx="373392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358128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586728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35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5"/>
          <p:cNvSpPr/>
          <p:nvPr/>
        </p:nvSpPr>
        <p:spPr>
          <a:xfrm>
            <a:off x="4419720" y="19810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6"/>
          <p:cNvSpPr/>
          <p:nvPr/>
        </p:nvSpPr>
        <p:spPr>
          <a:xfrm>
            <a:off x="4419720" y="3657600"/>
            <a:ext cx="15238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457200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45720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4419720" y="19810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6"/>
          <p:cNvSpPr/>
          <p:nvPr/>
        </p:nvSpPr>
        <p:spPr>
          <a:xfrm>
            <a:off x="4419720" y="3657600"/>
            <a:ext cx="15238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457200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45720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130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1752480" y="25909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6"/>
          <p:cNvSpPr/>
          <p:nvPr/>
        </p:nvSpPr>
        <p:spPr>
          <a:xfrm>
            <a:off x="1752480" y="41911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7"/>
          <p:cNvSpPr/>
          <p:nvPr/>
        </p:nvSpPr>
        <p:spPr>
          <a:xfrm flipH="1">
            <a:off x="2743200" y="1600200"/>
            <a:ext cx="320040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65760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297180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1752480" y="25909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1752480" y="41911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7"/>
          <p:cNvSpPr/>
          <p:nvPr/>
        </p:nvSpPr>
        <p:spPr>
          <a:xfrm flipH="1">
            <a:off x="2743200" y="1600200"/>
            <a:ext cx="320040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365760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297180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140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angles are NOT adjac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2362320" y="28195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6"/>
          <p:cNvSpPr/>
          <p:nvPr/>
        </p:nvSpPr>
        <p:spPr>
          <a:xfrm flipV="1">
            <a:off x="2362320" y="1752480"/>
            <a:ext cx="16002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7"/>
          <p:cNvSpPr/>
          <p:nvPr/>
        </p:nvSpPr>
        <p:spPr>
          <a:xfrm flipV="1">
            <a:off x="2057400" y="1752480"/>
            <a:ext cx="15238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8"/>
          <p:cNvSpPr/>
          <p:nvPr/>
        </p:nvSpPr>
        <p:spPr>
          <a:xfrm flipH="1" flipV="1">
            <a:off x="990360" y="17524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"/>
          <p:cNvSpPr/>
          <p:nvPr/>
        </p:nvSpPr>
        <p:spPr>
          <a:xfrm flipV="1">
            <a:off x="5486400" y="1980720"/>
            <a:ext cx="144792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5638680" y="2209680"/>
            <a:ext cx="121932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1"/>
          <p:cNvSpPr/>
          <p:nvPr/>
        </p:nvSpPr>
        <p:spPr>
          <a:xfrm>
            <a:off x="15238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2"/>
          <p:cNvSpPr/>
          <p:nvPr/>
        </p:nvSpPr>
        <p:spPr>
          <a:xfrm flipV="1">
            <a:off x="3048120" y="480060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3"/>
          <p:cNvSpPr/>
          <p:nvPr/>
        </p:nvSpPr>
        <p:spPr>
          <a:xfrm flipH="1" flipV="1">
            <a:off x="2285640" y="4571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88620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205740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3200400" y="2362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182880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594360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594360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2895480" y="2286000"/>
            <a:ext cx="381024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6"/>
          <p:cNvSpPr/>
          <p:nvPr/>
        </p:nvSpPr>
        <p:spPr>
          <a:xfrm flipV="1">
            <a:off x="2895480" y="2286000"/>
            <a:ext cx="38102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505320" y="4191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304812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2895480" y="2286000"/>
            <a:ext cx="381024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"/>
          <p:cNvSpPr/>
          <p:nvPr/>
        </p:nvSpPr>
        <p:spPr>
          <a:xfrm flipV="1">
            <a:off x="2895480" y="2286000"/>
            <a:ext cx="38102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3505320" y="4191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304812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2 lines intersect, they make vertical ang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3200400" y="2286000"/>
            <a:ext cx="3429000" cy="3657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 flipV="1">
            <a:off x="3505320" y="1828440"/>
            <a:ext cx="2286000" cy="3809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42670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441972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4876920" y="3505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365760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"/>
          <p:cNvSpPr/>
          <p:nvPr/>
        </p:nvSpPr>
        <p:spPr>
          <a:xfrm>
            <a:off x="4191120" y="4114800"/>
            <a:ext cx="914400" cy="9144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114800" y="2514600"/>
            <a:ext cx="914400" cy="9144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rtical angles are opposite one an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3200400" y="2286000"/>
            <a:ext cx="3429000" cy="3657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 flipV="1">
            <a:off x="3505320" y="1828440"/>
            <a:ext cx="2286000" cy="3809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2670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41972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4876920" y="3505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365760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2"/>
          <p:cNvSpPr/>
          <p:nvPr/>
        </p:nvSpPr>
        <p:spPr>
          <a:xfrm>
            <a:off x="4800600" y="3200400"/>
            <a:ext cx="914400" cy="9144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3505320" y="3352680"/>
            <a:ext cx="914400" cy="9144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rtical angles are opposite one an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3200400" y="2286000"/>
            <a:ext cx="3429000" cy="3657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6"/>
          <p:cNvSpPr/>
          <p:nvPr/>
        </p:nvSpPr>
        <p:spPr>
          <a:xfrm flipV="1">
            <a:off x="3505320" y="1828440"/>
            <a:ext cx="2286000" cy="3809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2670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1972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876920" y="3505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65760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rtical angles are congruent (equal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8"/>
          <p:cNvSpPr/>
          <p:nvPr/>
        </p:nvSpPr>
        <p:spPr>
          <a:xfrm>
            <a:off x="1523880" y="350532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9"/>
          <p:cNvSpPr/>
          <p:nvPr/>
        </p:nvSpPr>
        <p:spPr>
          <a:xfrm flipV="1">
            <a:off x="3505320" y="1828440"/>
            <a:ext cx="2286000" cy="3809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525780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411480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480060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380988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pplementary angles add up to 18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990720" y="41148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2"/>
          <p:cNvSpPr/>
          <p:nvPr/>
        </p:nvSpPr>
        <p:spPr>
          <a:xfrm flipV="1">
            <a:off x="2666880" y="22860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312408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198108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H="1" flipV="1">
            <a:off x="5638320" y="27432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6"/>
          <p:cNvSpPr/>
          <p:nvPr/>
        </p:nvSpPr>
        <p:spPr>
          <a:xfrm flipV="1">
            <a:off x="6858000" y="228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7"/>
          <p:cNvSpPr/>
          <p:nvPr/>
        </p:nvSpPr>
        <p:spPr>
          <a:xfrm flipV="1">
            <a:off x="716292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7162920" y="411480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62485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723888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914400" y="4495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jacent and Supplementary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4724280" y="4495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lementary Angl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t not Adja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02:20:11Z</dcterms:created>
  <dc:creator>teacher</dc:creator>
  <dc:description/>
  <dc:language>en-US</dc:language>
  <cp:lastModifiedBy>Kenneth McCarthy</cp:lastModifiedBy>
  <dcterms:modified xsi:type="dcterms:W3CDTF">2011-11-30T14:05:38Z</dcterms:modified>
  <cp:revision>10</cp:revision>
  <dc:subject/>
  <dc:title>Adjacent,  Vertical,  Supplementary, and Complementary Angles</dc:title>
</cp:coreProperties>
</file>